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CB4-291E-4B10-825E-AA734679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95F-E6B6-4CC1-AEA5-13185AE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96F3-AFD6-4249-9FE1-8F5C4460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8DCD9-B028-4F6B-A013-836A92C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38483-97FF-469F-8C99-8DAB649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C40D5-9B49-44F8-B602-EBB99A8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019F0-2CFE-4B6F-B4FC-3D10C6D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2005D-CB1A-4582-B2AA-588E0B4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61FA5-6335-42B4-9BFC-F071859B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08528-7ED8-43EF-8232-4DAFCB0E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4286A-99D8-4EC5-BEB0-3AC575AB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7CA36-A31D-4CB8-9EBD-CE81B23D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175-AAE1-4795-81A3-58180186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B7964-44A9-4067-95EC-127A6DC4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6492A-94E9-4994-9760-DE2FB4B2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ED6E2-8951-4310-A696-D7C93DA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42703-2C27-4CBD-9716-31536797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10947-216C-406E-9EF5-6BDD5FF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1BB0C-8F79-499E-8206-FB0F057F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ABAD8-972A-4116-B4BC-0CB18ED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A7D56-278C-499A-8676-2831430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804F7-53F2-4B60-BE9F-39FA48C0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4D07D-3D70-43F4-A9C2-73517F47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9D7-EB89-4E13-9A95-753A1D7D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6224D-E392-42EE-86F4-DA6CE12F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8FE7A-E221-4CBF-AEE7-CFB15E2D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31308-57B8-430D-A57D-60849871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6AA89-52C6-4420-8DB9-47B8820E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B128C-7E26-4405-8AEF-AEDEAD2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F675-2E26-4309-B4AD-B92F304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A847C-EE10-4FE4-A6EC-C6C9833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53D1-B391-4044-8618-C46A060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7EBF4-56BD-43E7-824F-A551C90E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2D74-1281-4017-B381-30B3FF77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58B-68B8-412D-B7D6-54F2475D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FBFD-7530-4C67-8276-F22466AB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80672-E6A1-4A09-832E-DF5AE7A5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3875E-CF9A-4D89-BFD3-F33C14EC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05AF2-DBE5-468D-99B2-3CA9DB55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868AA-E7E8-4BC3-B78D-0379F54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182D1-0F9B-4883-A724-0AE4E926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FD3F7-E6D9-417F-8B24-C75358CB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83A33-1E7C-42F2-9BD0-999F00B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9A903-788A-4F93-8A16-EBFD3C0E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97FFD-F5CF-49A1-9288-3260BAB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401-1D27-44CA-805C-1815B864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8DCBB-C1CA-4BC4-BC3F-054E86C3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78B76-8A4E-496F-90DF-E774BE54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633E6-5643-450D-9F0B-B1FCA7C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F2BD6-0807-4765-804D-175C4AB2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428C3-3E31-4EEA-A3CE-E510EE4D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00B09-A3CE-486D-85F2-1AB16E8D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F7EF0-9A62-4036-9805-014FD1C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30486-8A0F-44BE-A33F-1EB18239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108F7-C3B3-45FF-A8FE-063B6D53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233E9-156F-4799-B85C-17E8DD9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0465-44C3-46DC-B50C-8E0E95EB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B537B-30B1-4EFB-8106-C07C6FB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8ED4B-716F-45AE-990B-69EE6775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8CF89-6052-4805-9BE8-88D7624C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34860-EEC6-411F-93D6-D3153B7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8C3DE-9551-4F27-8B69-DC3704FD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70630-7C0F-431F-80CB-E34BDAF3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63A2B-6E59-4122-9909-40F3B954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E107C-4FA9-446A-BF20-923E248D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C7859-88E9-405B-BB09-B3DBB155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4392C-DAD7-41E2-9814-41699265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115C-DA56-4C57-A175-073DAEDE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9E2FF-6310-43B7-982F-43F693A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54A07-9931-4FB1-A4A3-CDFA0A6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4AAC5-BE00-43CF-863B-7B97807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19020-1223-4A6E-A920-67BFF513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4D5BA-9398-420A-A827-79EDB0BF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6F332-5654-4CBB-AAA2-CB24042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C79DF-1399-4B20-A87B-59225F5D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D2396-1215-49C7-B9E6-C9B34B39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0B8DB-8E76-4FE5-9221-A0B95881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5EA60-49BF-43B2-A963-AAD28898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44BC-D3A9-49CB-8DD0-525C35B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F061F-9450-4EF7-AEFB-EA452A0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3ECDE-F301-4869-B7F0-B664AB6B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EA403-BF70-4980-AC89-1E4DAC77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0C985-2F27-4D62-A7B3-BAE89A81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4A88C-B452-44D4-A53D-F259E69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0B91C-0E7A-42AB-B363-7C1CD1EE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26096-FF43-445E-A393-B0CA9617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8C0F1-ECD3-432B-B24A-E9E74BA7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6AD76-8AD2-4B44-A895-D4393E3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50DDB-F7C3-4EFF-A256-F42C6425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4011-9568-4A38-9378-6B4EC3BF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E1289-E9EC-4905-9ED6-19B38D0B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1CC23-E6A0-45E1-9962-BAA7C291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36433-7CB1-4E38-963E-BA9D24CB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22C5A-137E-4CA3-94B0-F60EBEF5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7624D-AB70-44EF-AF06-CE0E4C9E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D7BFF-935D-45A4-9471-5409923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D6168-A9B3-45A9-8BF6-7A80E94B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50A35-0298-4310-90B5-7689420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319FF-7AB4-4C65-B81B-401CA2F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BE6AB-2FF4-4F9B-B383-82A224D3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5699-0119-4E93-804B-18E792D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EA8DB-E9E5-44EE-A09F-A9CF6317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F2BD86-61B2-49FA-9D7C-A8093685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FD6BD-3DFE-401E-B56C-27BC8072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B7EDF-6820-4109-AFD0-175241DB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AAEBE-BE2A-4277-A67A-F250BF9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0E9D0-5FB5-435A-B8D8-047B603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E028F-6AF2-4A37-BD80-4781450E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48C91-788E-488C-B401-FCB8AF9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1EBE5-3092-4F41-A6B5-24CCA5BC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3AB3A-2065-44C9-BB15-89C2C667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57A-202E-4A90-A932-2A7F5115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FD29-E06F-4C0C-A3A5-F200135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4A1CE-438A-452B-B4AE-ED78AB3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AB88B-2E36-4194-B9F4-56A390FD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0AB72-683D-4A25-8465-7DD27E0A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DEB4A-9BC6-422B-9C70-52C3DEEF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E2A85-50F2-4541-98F8-F76FB9F1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47A8E-49CF-4260-8C69-6F40BFE8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BE725-C43C-4DC1-801B-868C32E3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88FA7-9B46-4048-ACE8-B039A16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CE53A-1BB4-4FF7-A6EB-E7DF04F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11109-FF77-459C-BE3A-E639F9A4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F1B-CB19-45F4-BA5F-11589484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C69B7-0F9F-4C46-8ED2-72ADC019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6B1A1-166B-49C1-A8DF-825D5F15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A3745-C457-4149-8237-7770D93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DEEFC-E291-4F50-9185-ABA4058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F0E44-18DB-436B-AC92-650ADF6E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B6272-001C-479F-9943-D9C71A2D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FAB5B-CE44-451F-A3D5-9137A226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F6D8D-E325-4754-A7C0-007D366F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B990E-3076-429B-88A2-ED7A9D1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A3B48B-0B1B-483F-A4B4-B5F8E291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F0C9-2D93-4BCD-893F-4BFEFAF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A232E-F0AA-429C-AA90-55681247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778DD-FF09-4BB2-865C-16873242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07247-CAE7-4DF7-A42E-8C275333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EC82F-7972-42D0-9817-D0769C2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AC31A-3D7E-4BB8-8056-2DB8D6A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17CF4-4298-42AC-A3E8-8CBCDB7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2B57A-9E19-4695-B2C2-C3E65FC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7E776-9F1D-4485-8EF4-D8560E71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9D879-E22B-4367-B050-A9664D98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C0E2F-D0C9-4F07-AFFE-803DABA3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DAE0-D37D-4C05-8870-79FEBA83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53C10-43A9-4110-8D63-74A664E2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593FE-1F60-4451-AA6A-3FE73772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FA8BF-7B8E-411A-A625-73DAEDC0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66CDF-6F99-40E4-899D-F588AE2C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B872A-E736-4D12-9284-6863C439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DBCE6-A3E7-44D3-8261-2C745AE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C0AB7-2F75-408A-9F32-117C742E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2CFC2-B81C-4DCD-866E-B22F951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8FFA5-4353-4342-94FC-54DE6D9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60234-1FCB-4445-BE5A-E9338C5E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D87E-E448-4704-BCF6-4AC9715A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4602E-7F86-4D2D-8227-B30C6386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F71C7-935E-4EFD-89FE-73112801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8DF95-FCBE-4513-B955-E9115CF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A6A22C-3D11-46C4-90E7-7C1298A1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1732CF-E5CB-4D20-A0CE-187EF34A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23BB5-8F33-40F0-A899-F2AC2BB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90C73-3925-4200-A714-20A3C1F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7DA5C-A589-4EB0-ACF7-F2D905EC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CFA7A-2D8B-47B9-BB6C-47666A3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7C2B1-6FBF-41DB-ADBC-7C29ABD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5B68-F52A-44FD-BFDE-8816CFCA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F8E13B-CF99-4C18-A4AD-06C86E6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FEC9C-AAAC-45B2-8289-AAB2BFEA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004CF-1975-4E9F-8AB2-0AD43368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19AEF-559E-401E-9BDC-AD497D05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86D4-E175-4BA7-A1BA-2F7B80A7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167D-57C9-4901-B450-51C992FC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9F5C-BEC7-48AC-964F-8D9D3E2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696-0CC5-4DC7-99C6-35CFB84E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579F-C9A3-4B99-A80C-C6000E2B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CC75-8BCE-4386-8A30-C3D83673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5DE0-715E-40B1-BD00-E5CA9C3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4109B-93D8-4929-991A-9845459D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643A-D056-4F10-8351-75A6DC17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9F9F-0B93-47DA-9A38-794F7B63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DFE6-AED1-431B-BB03-E77131BF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43D2-9851-40C3-A18F-444661C3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996D-08B8-415C-AC92-3D123164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54CB-2677-4680-AEFE-9FEE7FF7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467-FBCC-493B-AC19-CA23FF6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D537E-08B2-491E-89E7-01C2A19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588D-CE1D-4F54-A47C-64FBAE0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8F74-30D8-49D3-9867-0819DC30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1856-A95C-4B11-BF5E-44643EF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DA8E-C6EF-4887-8CF4-E34E194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7B95-A15B-4A26-946D-67399476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4FF6-3EE7-4F75-B349-FFD6BD73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C27F-4130-4E97-B666-F4468BED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53DB-E0AA-40CB-9C79-5C6CFFAA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75FA-6879-4B8A-A9FD-B2E38425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B1D-8063-46C2-86FE-E5335351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A9AD-73D5-459A-95D9-54349D8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97BB-DDFB-49F4-A44D-881C073E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78DF-5F1B-48EE-8576-37A69506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C8E1-B5E2-4B7F-B8DF-A5046DE0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0061-7681-4390-AA3D-F69CF0B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A74A-0E1A-4EF4-9C7D-C3CD434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495A-F640-4C35-9EF9-27830E7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2AB5-56F3-4297-AAD7-4C2E73A5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A4F14-ABB7-4D1D-A23D-4DAB7B56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D0DC9-ECAB-4072-A595-2A25FEB4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FBB-76E9-4346-9D9E-9F629E8F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2A40-0F53-4D03-B3CA-43AE352F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217D-8081-4502-BE9C-3AF1B158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562E5-8ECE-46B5-928C-3337BB4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DBF1-05A3-43BF-BE81-59027A0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40440-BD78-4BDD-9B42-4C670A5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8BD5-C0B0-4C97-82F4-4FC024E7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9A3F8-E31F-4463-A1C4-69E2E5CC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AB00B-B260-45BC-B3DD-178DF1F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B0CF-DA3D-42A4-971F-1D2E143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DCD4-B4AD-4B95-A232-DA11FCF5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3AF-75B3-4EA3-9798-66DE53A7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E057-1BA7-4CF3-A46F-DCBE028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F03F-6A19-4150-8DF9-0B16C563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A077-A14C-4ED2-BE06-7647B8C1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3C85-B58F-49AF-B4F2-3FC41D01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8A3D-4C14-41E8-BA16-1EA4ADD9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009C0-899F-44C7-856C-7B49C16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C76A-2BA9-456A-9776-2381B3B9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FE7EB-BFA5-4AB8-94F2-8BA1F91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D73C-5327-4B62-A3B3-0592BD6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09E85-1992-48FF-BFE6-DC5BB33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3B6-2B11-49FE-A03D-80AB156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D339-6F97-4433-A9F8-C63E3639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F70C5-87A4-4207-912D-490E4CB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B4114-6DAB-4ECA-9C9E-F005CCA2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4585-521C-48A6-A112-9353EB2A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6376F-2F76-4396-9AA3-EEA85E98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4FFD6-1B57-48BD-97F3-BF9E35F2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7C342-67BF-4F6A-BC8A-79CB397A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B1CA-28EE-4331-835F-E56362A4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9EF9C-BBC0-48CE-8808-9BB4DEDC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53BA-832A-46CC-B041-8A8AA5B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B3B-64DA-456C-A094-A84F220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701E-2955-4A1F-8DFF-2FA7E4E8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617E4-9BBF-4F49-8617-D8B90C6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5257-F33B-4AFB-A4EC-1D26485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5F2E-BE6B-475B-9E08-3F467C1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752A-A672-489E-9A68-AE211BA6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65C0A-17F9-4F9C-B42B-0FA6AC2F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2772F-B9BC-4987-9AA6-B6F26321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467FB-0CB0-4D19-A3F8-EC5BE649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59A46-5110-4E8F-89FB-CA830A24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92CB9-20B9-4958-8F91-5E2B485E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3202-A996-4291-BD78-C5EAAD0E0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73E-75C6-443B-8F11-997DB26CFC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A90F-9DDD-4BC9-A2E5-2A55D034BB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C78-DFAB-4E28-9258-771D6AC07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0AA6-E6C8-4EE1-A0F8-01E7DC16CC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9A6-7D63-409C-9362-D75361970B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84F5-89F3-4CEE-A6BF-1C5DA707E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DBE-5828-4552-9506-61C0A0C8A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FA53-181D-4E31-B603-FFBD90FC72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D207-AAC1-4B96-BE75-E1E43AD87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94DD-C0F0-4B17-8F80-F1E50194E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E80E-7C2B-4125-9370-1826C9315F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95BE-AD1E-497B-A46D-ED9F61ADE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DC3A-F460-4145-9EF3-14536382B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55AB-197B-4B11-B0B3-8362AD9EE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C22C-F3ED-4E9D-B0BF-3C31865D2A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14D2-CE5B-40B5-8113-922FCCB70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A7FC-1B7F-4357-8901-CBD76C23C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AD75-5D0A-43E9-841B-8A2D199AA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08FF-3648-45E1-9811-8811AACE2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A4A9-1EA0-40C2-98A2-2671F46D0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171C-8A19-468E-B3C6-947779C62F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6A6C-CAF6-41F6-8A49-1BCC7C77A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07C4-25CD-4687-8F25-EDD7556B8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234B-26FE-45C0-8863-F60C84960A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5399-5CC3-4851-B2A5-3E158F8003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0624-A9CC-454F-8010-30AD05FEC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72DB-0015-44A4-9682-36A60C1B8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4B95-6A59-4841-864C-1E4BAF002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9024-2060-4CD3-8F5B-7FCC3DEAFC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1E4-BCE7-481A-B4ED-EF73D85EC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05F1-6C54-40BF-825A-BD88AEB67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68F-60F2-4818-92E5-F6CF9A1C03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9BE7-DEA2-4C98-B244-45A044760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480E-78B5-46B7-8CDD-B0646F6F2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1198-CB49-42C5-91F3-B58C2865F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058-E247-4739-A33A-5B210F1F5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CB9C-7C1A-4129-87A9-0493B7A71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0373-2D14-4059-96E4-354878802F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18A-6C30-4AFF-B703-BB136D462B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5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29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895320" y="3138480"/>
            <a:ext cx="73533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343080" y="714240"/>
            <a:ext cx="8458200" cy="60962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285840" y="3868560"/>
            <a:ext cx="8786880" cy="735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285840" y="46083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285840" y="50864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285840" y="55371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285840" y="6072120"/>
            <a:ext cx="87868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500040" y="741240"/>
            <a:ext cx="8223120" cy="6072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2"/>
          <a:stretch/>
        </p:blipFill>
        <p:spPr>
          <a:xfrm>
            <a:off x="285840" y="703440"/>
            <a:ext cx="8786880" cy="425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3"/>
          <a:stretch/>
        </p:blipFill>
        <p:spPr>
          <a:xfrm>
            <a:off x="285840" y="1214280"/>
            <a:ext cx="8786880" cy="6876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4"/>
          <a:stretch/>
        </p:blipFill>
        <p:spPr>
          <a:xfrm>
            <a:off x="285840" y="19890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5"/>
          <a:stretch/>
        </p:blipFill>
        <p:spPr>
          <a:xfrm>
            <a:off x="5869080" y="4092480"/>
            <a:ext cx="2781360" cy="26956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6"/>
          <a:stretch/>
        </p:blipFill>
        <p:spPr>
          <a:xfrm>
            <a:off x="285840" y="4148280"/>
            <a:ext cx="5643360" cy="423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7"/>
          <a:stretch/>
        </p:blipFill>
        <p:spPr>
          <a:xfrm>
            <a:off x="285840" y="4576680"/>
            <a:ext cx="5643360" cy="424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8"/>
          <a:stretch/>
        </p:blipFill>
        <p:spPr>
          <a:xfrm>
            <a:off x="285840" y="5005440"/>
            <a:ext cx="5643360" cy="4237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9"/>
          <a:stretch/>
        </p:blipFill>
        <p:spPr>
          <a:xfrm>
            <a:off x="285840" y="5465880"/>
            <a:ext cx="5643360" cy="423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10"/>
          <a:stretch/>
        </p:blipFill>
        <p:spPr>
          <a:xfrm>
            <a:off x="285840" y="5894280"/>
            <a:ext cx="5643360" cy="4240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11"/>
          <a:stretch/>
        </p:blipFill>
        <p:spPr>
          <a:xfrm>
            <a:off x="285840" y="6311880"/>
            <a:ext cx="564336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785880" y="857160"/>
            <a:ext cx="7819920" cy="2143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" descr=""/>
          <p:cNvPicPr/>
          <p:nvPr/>
        </p:nvPicPr>
        <p:blipFill>
          <a:blip r:embed="rId2"/>
          <a:stretch/>
        </p:blipFill>
        <p:spPr>
          <a:xfrm>
            <a:off x="285840" y="3571920"/>
            <a:ext cx="8391600" cy="3171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285840" y="8967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285840" y="1376280"/>
            <a:ext cx="8786880" cy="777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5"/>
          <a:stretch/>
        </p:blipFill>
        <p:spPr>
          <a:xfrm>
            <a:off x="285840" y="2212920"/>
            <a:ext cx="8786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2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7867800" cy="54385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2"/>
          <a:stretch/>
        </p:blipFill>
        <p:spPr>
          <a:xfrm>
            <a:off x="285840" y="108252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285840" y="155088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285840" y="200016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5"/>
          <a:stretch/>
        </p:blipFill>
        <p:spPr>
          <a:xfrm>
            <a:off x="285840" y="24400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6"/>
          <a:stretch/>
        </p:blipFill>
        <p:spPr>
          <a:xfrm>
            <a:off x="285840" y="28972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7"/>
          <a:stretch/>
        </p:blipFill>
        <p:spPr>
          <a:xfrm>
            <a:off x="285840" y="332568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8"/>
          <a:stretch/>
        </p:blipFill>
        <p:spPr>
          <a:xfrm>
            <a:off x="285840" y="374004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9"/>
          <a:stretch/>
        </p:blipFill>
        <p:spPr>
          <a:xfrm>
            <a:off x="5765760" y="979560"/>
            <a:ext cx="2685960" cy="35146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10"/>
          <a:stretch/>
        </p:blipFill>
        <p:spPr>
          <a:xfrm>
            <a:off x="285840" y="4229280"/>
            <a:ext cx="5429160" cy="4251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11"/>
          <a:stretch/>
        </p:blipFill>
        <p:spPr>
          <a:xfrm>
            <a:off x="285840" y="465768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12"/>
          <a:stretch/>
        </p:blipFill>
        <p:spPr>
          <a:xfrm>
            <a:off x="285840" y="50976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13"/>
          <a:stretch/>
        </p:blipFill>
        <p:spPr>
          <a:xfrm>
            <a:off x="285840" y="55260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14"/>
          <a:stretch/>
        </p:blipFill>
        <p:spPr>
          <a:xfrm>
            <a:off x="285840" y="6014880"/>
            <a:ext cx="8786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1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639200" cy="1676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2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8420040" cy="40006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3"/>
          <a:stretch/>
        </p:blipFill>
        <p:spPr>
          <a:xfrm>
            <a:off x="285840" y="785880"/>
            <a:ext cx="8786880" cy="8269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4"/>
          <a:stretch/>
        </p:blipFill>
        <p:spPr>
          <a:xfrm>
            <a:off x="285840" y="1601640"/>
            <a:ext cx="87868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29640" cy="57340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2"/>
          <a:stretch/>
        </p:blipFill>
        <p:spPr>
          <a:xfrm>
            <a:off x="285840" y="917640"/>
            <a:ext cx="8786880" cy="3213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3"/>
          <a:stretch/>
        </p:blipFill>
        <p:spPr>
          <a:xfrm>
            <a:off x="285840" y="4130640"/>
            <a:ext cx="8786880" cy="7048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4"/>
          <a:stretch/>
        </p:blipFill>
        <p:spPr>
          <a:xfrm>
            <a:off x="285840" y="48830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5"/>
          <a:stretch/>
        </p:blipFill>
        <p:spPr>
          <a:xfrm>
            <a:off x="285840" y="5311800"/>
            <a:ext cx="8786880" cy="500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6"/>
          <a:stretch/>
        </p:blipFill>
        <p:spPr>
          <a:xfrm>
            <a:off x="285840" y="5780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7"/>
          <a:stretch/>
        </p:blipFill>
        <p:spPr>
          <a:xfrm>
            <a:off x="285840" y="6275520"/>
            <a:ext cx="878688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1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7763040" cy="58294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2"/>
          <a:stretch/>
        </p:blipFill>
        <p:spPr>
          <a:xfrm>
            <a:off x="285840" y="8460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3"/>
          <a:stretch/>
        </p:blipFill>
        <p:spPr>
          <a:xfrm>
            <a:off x="285840" y="12654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4"/>
          <a:stretch/>
        </p:blipFill>
        <p:spPr>
          <a:xfrm>
            <a:off x="285840" y="17445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5"/>
          <a:stretch/>
        </p:blipFill>
        <p:spPr>
          <a:xfrm>
            <a:off x="285840" y="21938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6"/>
          <a:stretch/>
        </p:blipFill>
        <p:spPr>
          <a:xfrm>
            <a:off x="285840" y="26542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7"/>
          <a:stretch/>
        </p:blipFill>
        <p:spPr>
          <a:xfrm>
            <a:off x="285840" y="30718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8"/>
          <a:stretch/>
        </p:blipFill>
        <p:spPr>
          <a:xfrm>
            <a:off x="285840" y="355140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9"/>
          <a:stretch/>
        </p:blipFill>
        <p:spPr>
          <a:xfrm>
            <a:off x="5286240" y="3511440"/>
            <a:ext cx="3786480" cy="29894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10"/>
          <a:stretch/>
        </p:blipFill>
        <p:spPr>
          <a:xfrm>
            <a:off x="285840" y="3994200"/>
            <a:ext cx="4786200" cy="4237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11"/>
          <a:stretch/>
        </p:blipFill>
        <p:spPr>
          <a:xfrm>
            <a:off x="285840" y="4394160"/>
            <a:ext cx="4786200" cy="424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12"/>
          <a:stretch/>
        </p:blipFill>
        <p:spPr>
          <a:xfrm>
            <a:off x="285840" y="4989600"/>
            <a:ext cx="4786200" cy="812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13"/>
          <a:stretch/>
        </p:blipFill>
        <p:spPr>
          <a:xfrm>
            <a:off x="285840" y="5791320"/>
            <a:ext cx="4786200" cy="4237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14"/>
          <a:stretch/>
        </p:blipFill>
        <p:spPr>
          <a:xfrm>
            <a:off x="285840" y="6240600"/>
            <a:ext cx="47862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1" descr=""/>
          <p:cNvPicPr/>
          <p:nvPr/>
        </p:nvPicPr>
        <p:blipFill>
          <a:blip r:embed="rId1"/>
          <a:stretch/>
        </p:blipFill>
        <p:spPr>
          <a:xfrm>
            <a:off x="642960" y="804960"/>
            <a:ext cx="7858080" cy="5981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8786880" cy="7380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3"/>
          <a:stretch/>
        </p:blipFill>
        <p:spPr>
          <a:xfrm>
            <a:off x="285840" y="1654200"/>
            <a:ext cx="8786880" cy="662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4"/>
          <a:stretch/>
        </p:blipFill>
        <p:spPr>
          <a:xfrm>
            <a:off x="285840" y="2489040"/>
            <a:ext cx="8786880" cy="6638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5"/>
          <a:stretch/>
        </p:blipFill>
        <p:spPr>
          <a:xfrm>
            <a:off x="285840" y="3357720"/>
            <a:ext cx="8786880" cy="6634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6"/>
          <a:stretch/>
        </p:blipFill>
        <p:spPr>
          <a:xfrm>
            <a:off x="285840" y="4240080"/>
            <a:ext cx="8786880" cy="762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7"/>
          <a:stretch/>
        </p:blipFill>
        <p:spPr>
          <a:xfrm>
            <a:off x="285840" y="5143680"/>
            <a:ext cx="8786880" cy="663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8"/>
          <a:stretch/>
        </p:blipFill>
        <p:spPr>
          <a:xfrm>
            <a:off x="285840" y="5989680"/>
            <a:ext cx="878688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18960" y="1000080"/>
            <a:ext cx="8506080" cy="56102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943760" y="1479600"/>
            <a:ext cx="465120" cy="395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943760" y="4054320"/>
            <a:ext cx="465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314280" y="942840"/>
            <a:ext cx="8515440" cy="57722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929720" y="114300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7858080" y="360360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357120" y="1914480"/>
            <a:ext cx="8429760" cy="3029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2"/>
          <a:stretch/>
        </p:blipFill>
        <p:spPr>
          <a:xfrm>
            <a:off x="7943760" y="2440080"/>
            <a:ext cx="465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47760" y="785880"/>
            <a:ext cx="8448480" cy="6057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7943760" y="178596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7943760" y="553248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429760" cy="15048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419040" y="2643120"/>
            <a:ext cx="8410680" cy="3714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8035920" y="3268800"/>
            <a:ext cx="465120" cy="395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3000240" y="585792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43080" y="976320"/>
            <a:ext cx="8458200" cy="5524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2643120" cy="397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6643800" y="2000160"/>
            <a:ext cx="857160" cy="397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3571920" y="2500200"/>
            <a:ext cx="857160" cy="3970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1785960" y="6072120"/>
            <a:ext cx="257184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357120" y="728640"/>
            <a:ext cx="8487000" cy="6058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3214800" y="1785960"/>
            <a:ext cx="1857240" cy="396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6297480" y="4378320"/>
            <a:ext cx="10000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90400" y="971640"/>
            <a:ext cx="7963200" cy="57434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785880" y="3643200"/>
            <a:ext cx="2714400" cy="7146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3"/>
          <a:stretch/>
        </p:blipFill>
        <p:spPr>
          <a:xfrm>
            <a:off x="785880" y="4521240"/>
            <a:ext cx="3643200" cy="396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5207040" y="3527280"/>
            <a:ext cx="3381480" cy="32576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5"/>
          <a:stretch/>
        </p:blipFill>
        <p:spPr>
          <a:xfrm>
            <a:off x="285840" y="5005440"/>
            <a:ext cx="4143240" cy="4237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6"/>
          <a:stretch/>
        </p:blipFill>
        <p:spPr>
          <a:xfrm>
            <a:off x="285840" y="5486400"/>
            <a:ext cx="414324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45:1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